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BE69-A2AF-40C4-A6CE-586E5DDC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4840-86F8-4CE3-BE17-125724D6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355FE-A677-4BB2-B872-1A41188C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A66E-6049-4426-A656-374FEFBF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B2ED-D167-4D19-91DF-AE098B53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7C54-F33C-46A1-BEA1-B405C6CC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A6A2-C651-42EA-BCA7-91946AA9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401A-6ECA-4F06-B0D2-0BA2B123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4820-F182-4648-9592-D15049FB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E6A4-D645-472D-B078-A3153EE0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B71E-3F3F-4C9D-8E7D-0E08B381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D3EF3-03BF-4C07-9B19-1B349271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B222-84D6-4706-B044-44B22466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E442-3B7D-4C69-919F-52A78112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AC9A-E8E8-44D3-BB81-DD2CDDBA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8F81-64DC-4C15-9149-48F77594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F0C2-88C4-4EB4-80A4-C3F342B9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E8C8-1F61-4341-8AEA-6854EB9F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7CDAE-B7D0-46BD-BC1F-9D338DDE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87334-48A9-4E72-8714-FC42053E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A198-EB8A-4F6E-8650-A7F412A0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5825-5A2C-4934-90E3-EB079B4D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6D96-3EA1-45B7-A559-946628A4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2A615-6BAF-4F4C-97B5-8CECC70B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75888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9DC2-B50B-49B5-A65B-37D626F39B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252900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e6">
                  <a:alpha val="80392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16120" y="127620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652320"/>
            <a:ext cx="2867040" cy="3157560"/>
            <a:chOff x="0" y="652320"/>
            <a:chExt cx="2867040" cy="3157560"/>
          </a:xfrm>
        </p:grpSpPr>
        <p:sp>
          <p:nvSpPr>
            <p:cNvPr id="56" name=""/>
            <p:cNvSpPr/>
            <p:nvPr/>
          </p:nvSpPr>
          <p:spPr>
            <a:xfrm>
              <a:off x="573120" y="3168720"/>
              <a:ext cx="576360" cy="6411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16120" y="1276200"/>
              <a:ext cx="574560" cy="642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81320" y="652320"/>
              <a:ext cx="585720" cy="6350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1560" y="3168720"/>
              <a:ext cx="583920" cy="641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81320" y="1276200"/>
              <a:ext cx="585720" cy="642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1560" y="1909800"/>
              <a:ext cx="583920" cy="633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909800"/>
              <a:ext cx="582480" cy="633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16120" y="1909800"/>
              <a:ext cx="574560" cy="633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3120" y="2533680"/>
              <a:ext cx="576360" cy="644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1560" y="2533680"/>
              <a:ext cx="583920" cy="644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4465-7D14-4C51-8C54-05D020AE71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4144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4144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Finding an Optimal Housing Strategy in New York Cit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486040" y="3962160"/>
            <a:ext cx="3505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dward Hsu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Paul Manger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ichard Mendoza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Luke Vaccaro</a:t>
            </a:r>
            <a:br>
              <a:rPr sz="2500"/>
            </a:b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Roger Wils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Monday, December 06, 200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l Prices in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523880"/>
            <a:ext cx="23619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Bed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l data spans from 1994 to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bedroom average % change per year is 10.4% with a SD of 10.3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43200" y="1447920"/>
          <a:ext cx="62406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6240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tal Prices in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743200" y="1447920"/>
          <a:ext cx="61722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61722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04920" y="1523880"/>
            <a:ext cx="23619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Bed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tal data spans from 1988 to 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year 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verage % increase per year was 3.63% with a SD of 1.33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-year 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verage % increase per year was 5.94% with a SD of 1.74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: Buy vs. 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Bedroom a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: $461,086 to buy (we use $500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,500 per month to 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er’s Fee: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Capital: 3% (average inflation r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gage = 30 yr fixed (we use 6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ransactions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2666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8120" y="1440000"/>
            <a:ext cx="5943600" cy="5254560"/>
          </a:xfrm>
          <a:prstGeom prst="rect">
            <a:avLst/>
          </a:prstGeom>
          <a:ln w="38160">
            <a:solidFill>
              <a:srgbClr val="0000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1447920"/>
            <a:ext cx="4952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R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V benefit of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even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193920"/>
            <a:ext cx="9144000" cy="3283200"/>
          </a:xfrm>
          <a:prstGeom prst="rect">
            <a:avLst/>
          </a:prstGeom>
          <a:ln w="38160">
            <a:solidFill>
              <a:srgbClr val="0000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320" y="3352680"/>
            <a:ext cx="70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go to the Excel Model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9880" y="25909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onstration: Effects of </a:t>
            </a:r>
            <a:br>
              <a:rPr sz="4000"/>
            </a:b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pected Appreciatio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92280" y="1600200"/>
            <a:ext cx="7323120" cy="5521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9880" y="4308480"/>
            <a:ext cx="4079880" cy="861840"/>
          </a:xfrm>
          <a:custGeom>
            <a:avLst/>
            <a:gdLst/>
            <a:ahLst/>
            <a:rect l="l" t="t" r="r" b="b"/>
            <a:pathLst>
              <a:path w="2570" h="543">
                <a:moveTo>
                  <a:pt x="0" y="536"/>
                </a:moveTo>
                <a:cubicBezTo>
                  <a:pt x="25" y="535"/>
                  <a:pt x="54" y="543"/>
                  <a:pt x="151" y="529"/>
                </a:cubicBezTo>
                <a:cubicBezTo>
                  <a:pt x="248" y="515"/>
                  <a:pt x="335" y="505"/>
                  <a:pt x="580" y="454"/>
                </a:cubicBezTo>
                <a:cubicBezTo>
                  <a:pt x="825" y="403"/>
                  <a:pt x="1291" y="299"/>
                  <a:pt x="1623" y="223"/>
                </a:cubicBezTo>
                <a:cubicBezTo>
                  <a:pt x="1955" y="147"/>
                  <a:pt x="2373" y="46"/>
                  <a:pt x="2570" y="0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4743360"/>
            <a:ext cx="2743200" cy="1604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ual Appreciation: 3-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 Price: From $500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t: $2,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 Payment: 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onstration: Effects of </a:t>
            </a:r>
            <a:br>
              <a:rPr sz="3600"/>
            </a:b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pected Appreciatio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Dec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8988480" cy="5513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32120" y="3287880"/>
            <a:ext cx="5829120" cy="849240"/>
          </a:xfrm>
          <a:custGeom>
            <a:avLst/>
            <a:gdLst/>
            <a:ahLst/>
            <a:rect l="l" t="t" r="r" b="b"/>
            <a:pathLst>
              <a:path w="3672" h="535">
                <a:moveTo>
                  <a:pt x="0" y="0"/>
                </a:moveTo>
                <a:cubicBezTo>
                  <a:pt x="31" y="38"/>
                  <a:pt x="42" y="99"/>
                  <a:pt x="288" y="154"/>
                </a:cubicBezTo>
                <a:cubicBezTo>
                  <a:pt x="534" y="209"/>
                  <a:pt x="1089" y="281"/>
                  <a:pt x="1474" y="329"/>
                </a:cubicBezTo>
                <a:cubicBezTo>
                  <a:pt x="1859" y="377"/>
                  <a:pt x="2230" y="408"/>
                  <a:pt x="2596" y="442"/>
                </a:cubicBezTo>
                <a:cubicBezTo>
                  <a:pt x="2962" y="476"/>
                  <a:pt x="3448" y="516"/>
                  <a:pt x="3672" y="535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5200560"/>
            <a:ext cx="3886200" cy="1604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ual Appreciation: 3-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 Price: From $500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t: $2,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wn Payment: 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onstration: Effects of </a:t>
            </a:r>
            <a:br>
              <a:rPr sz="3600"/>
            </a:b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me Purchase Pric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Dec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130480" y="1447920"/>
            <a:ext cx="6708600" cy="5446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2280" y="2133720"/>
            <a:ext cx="2438640" cy="3134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Appreci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Pric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$400K-$600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Paymen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79960" y="5273640"/>
            <a:ext cx="2720880" cy="430200"/>
          </a:xfrm>
          <a:custGeom>
            <a:avLst/>
            <a:gdLst/>
            <a:ahLst/>
            <a:rect l="l" t="t" r="r" b="b"/>
            <a:pathLst>
              <a:path w="1714" h="271">
                <a:moveTo>
                  <a:pt x="0" y="271"/>
                </a:moveTo>
                <a:cubicBezTo>
                  <a:pt x="18" y="270"/>
                  <a:pt x="117" y="267"/>
                  <a:pt x="175" y="264"/>
                </a:cubicBezTo>
                <a:cubicBezTo>
                  <a:pt x="256" y="259"/>
                  <a:pt x="376" y="254"/>
                  <a:pt x="487" y="240"/>
                </a:cubicBezTo>
                <a:cubicBezTo>
                  <a:pt x="598" y="226"/>
                  <a:pt x="636" y="222"/>
                  <a:pt x="840" y="182"/>
                </a:cubicBezTo>
                <a:cubicBezTo>
                  <a:pt x="1044" y="142"/>
                  <a:pt x="1532" y="38"/>
                  <a:pt x="1714" y="0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onstration: Effects of </a:t>
            </a:r>
            <a:br>
              <a:rPr sz="3600"/>
            </a:b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me Purchase Price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Dec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587600"/>
            <a:ext cx="8229600" cy="4051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50920" y="3005280"/>
            <a:ext cx="3141720" cy="1284120"/>
          </a:xfrm>
          <a:custGeom>
            <a:avLst/>
            <a:gdLst/>
            <a:ahLst/>
            <a:rect l="l" t="t" r="r" b="b"/>
            <a:pathLst>
              <a:path w="1979" h="809">
                <a:moveTo>
                  <a:pt x="0" y="0"/>
                </a:moveTo>
                <a:cubicBezTo>
                  <a:pt x="79" y="147"/>
                  <a:pt x="124" y="197"/>
                  <a:pt x="220" y="274"/>
                </a:cubicBezTo>
                <a:cubicBezTo>
                  <a:pt x="316" y="351"/>
                  <a:pt x="430" y="400"/>
                  <a:pt x="577" y="459"/>
                </a:cubicBezTo>
                <a:cubicBezTo>
                  <a:pt x="724" y="518"/>
                  <a:pt x="871" y="572"/>
                  <a:pt x="1105" y="630"/>
                </a:cubicBezTo>
                <a:cubicBezTo>
                  <a:pt x="1339" y="688"/>
                  <a:pt x="1797" y="772"/>
                  <a:pt x="1979" y="809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320" y="4687920"/>
            <a:ext cx="3886200" cy="2037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Appreciation: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Price: From $400K-$600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: $2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Payment: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494000"/>
            <a:ext cx="7756560" cy="53766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onstration: Effects of </a:t>
            </a:r>
            <a:br>
              <a:rPr sz="3600"/>
            </a:b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rting Ren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Dec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33880" y="4933800"/>
            <a:ext cx="1933560" cy="376560"/>
          </a:xfrm>
          <a:custGeom>
            <a:avLst/>
            <a:gdLst/>
            <a:ahLst/>
            <a:rect l="l" t="t" r="r" b="b"/>
            <a:pathLst>
              <a:path w="1218" h="237">
                <a:moveTo>
                  <a:pt x="0" y="237"/>
                </a:moveTo>
                <a:cubicBezTo>
                  <a:pt x="18" y="236"/>
                  <a:pt x="62" y="190"/>
                  <a:pt x="138" y="165"/>
                </a:cubicBezTo>
                <a:cubicBezTo>
                  <a:pt x="218" y="138"/>
                  <a:pt x="362" y="98"/>
                  <a:pt x="480" y="75"/>
                </a:cubicBezTo>
                <a:cubicBezTo>
                  <a:pt x="598" y="52"/>
                  <a:pt x="726" y="40"/>
                  <a:pt x="849" y="27"/>
                </a:cubicBezTo>
                <a:cubicBezTo>
                  <a:pt x="972" y="14"/>
                  <a:pt x="1141" y="6"/>
                  <a:pt x="1218" y="0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4429080"/>
            <a:ext cx="2971800" cy="1819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sum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 Appreciation: 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Price: $50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t: From $1,000-$4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 Payment: 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717560"/>
            <a:ext cx="82296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onstration: Effects of </a:t>
            </a:r>
            <a:br>
              <a:rPr sz="3600"/>
            </a:b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rting Ren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Dec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43120" y="3652920"/>
            <a:ext cx="1927080" cy="869760"/>
          </a:xfrm>
          <a:custGeom>
            <a:avLst/>
            <a:gdLst/>
            <a:ahLst/>
            <a:rect l="l" t="t" r="r" b="b"/>
            <a:pathLst>
              <a:path w="1214" h="548">
                <a:moveTo>
                  <a:pt x="0" y="49"/>
                </a:moveTo>
                <a:cubicBezTo>
                  <a:pt x="162" y="3"/>
                  <a:pt x="250" y="0"/>
                  <a:pt x="377" y="18"/>
                </a:cubicBezTo>
                <a:cubicBezTo>
                  <a:pt x="504" y="36"/>
                  <a:pt x="660" y="107"/>
                  <a:pt x="761" y="157"/>
                </a:cubicBezTo>
                <a:cubicBezTo>
                  <a:pt x="862" y="207"/>
                  <a:pt x="908" y="253"/>
                  <a:pt x="983" y="318"/>
                </a:cubicBezTo>
                <a:cubicBezTo>
                  <a:pt x="1058" y="383"/>
                  <a:pt x="1091" y="402"/>
                  <a:pt x="1214" y="54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4902120"/>
            <a:ext cx="2971800" cy="1819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sum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 Appreciation: 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Price: $50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t: From $1,000-$4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 Payment: 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take into account home re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al allowances (utilities, etc.) not accounted for in rental cost pro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ptimization of down payment vs. alternative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re coming out of NYU Stern with the standard high income and signing bo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expect to live in New York for a few years and then move to Milford, Connecticut with your supermodel spouse and little cher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expected real-estate market conditions, you want to make an optimal housing decision during your residence in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highest NPV strategy for living in New York City meeting personal financial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: Decisio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front cash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tion: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of expected house appre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in rental cost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in expected returns in alternative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in changes in fees (maintenance, t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umptions: Personal Fin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not raise debt except to purchase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not refinance your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easing, you will invest an amount of money equal to the estimated down payment and transaction cost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turns of the above are reinvested.  You would withdraw all returns when you move out of your New York apar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hattan Property Val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2590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istorical sell price of properties from 1994 to 2003 varied greatly for 4+ bedro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AGR for all properties was 6.8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verage % change/year for all properties was 8.6% with a SD of 16.1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95480" y="1600200"/>
          <a:ext cx="609624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00200"/>
                    <a:ext cx="60962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hattan Property Val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2361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Bed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GR for 1 bedroom is 9.8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verage % change/year for 1 bedroom was 10.4% with a SD of 10.3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895480" y="1371600"/>
          <a:ext cx="609624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371600"/>
                    <a:ext cx="60962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9:33:17Z</dcterms:created>
  <dc:creator>Edward Hsu</dc:creator>
  <dc:description/>
  <dc:language>en-US</dc:language>
  <cp:lastModifiedBy>Edward Hsu</cp:lastModifiedBy>
  <dcterms:modified xsi:type="dcterms:W3CDTF">2004-12-06T15:47:03Z</dcterms:modified>
  <cp:revision>43</cp:revision>
  <dc:subject/>
  <dc:title>Slide 1</dc:title>
</cp:coreProperties>
</file>